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C5A31-2CD7-48D8-BF42-546C42C8E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F01E8-D577-4836-9DFF-627B14EDE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5050B-3636-4EFC-ACDA-E50C6625B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3EBB7-67BA-4263-869B-44BF775FE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18690-C072-40DD-9154-EC6373ECF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7F160-0706-4504-8F18-282547A36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BEB24-A6DC-4928-8941-A9752FD06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F71DF-FA20-40EF-9743-95188446E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CB6C2-57C0-4BCA-8A61-80E7FA6C5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CA7DF-8D0B-46E1-8F12-CF11200BB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98315-FC0A-4F58-8E03-74B47083F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42BD0-B6F7-4C80-8CC1-EFF7E88FD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8F0C-FF48-4AB3-931A-E02C3CDF7F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pacaqua.org/" TargetMode="External"/><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PACIFIC AQUACULTURE CAUCUS</a:t>
            </a:r>
            <a:endParaRPr b="0" lang="en-US" sz="48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lin E. Nash</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retary &amp; Treasur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 MEMBERSHIP</a:t>
            </a:r>
            <a:endParaRPr b="0" lang="en-US" sz="4800" spc="-1" strike="noStrike">
              <a:solidFill>
                <a:srgbClr val="ffff00"/>
              </a:solidFill>
              <a:latin typeface="Times New Roman"/>
            </a:endParaRPr>
          </a:p>
        </p:txBody>
      </p:sp>
      <p:sp>
        <p:nvSpPr>
          <p:cNvPr id="61"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IMARY MEMBERS - $250 pa</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CONDARY MEMBERS - $25 p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 HISTORY</a:t>
            </a:r>
            <a:endParaRPr b="0" lang="en-US" sz="4800" spc="-1" strike="noStrike">
              <a:solidFill>
                <a:srgbClr val="ffff00"/>
              </a:solidFill>
              <a:latin typeface="Times New Roman"/>
            </a:endParaRPr>
          </a:p>
        </p:txBody>
      </p:sp>
      <p:sp>
        <p:nvSpPr>
          <p:cNvPr id="44"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C/NOAA SUMMER OF 1999 AQUACULTURE WORKSHOP</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C DEPARTMENT-WIDE POLICY FOR MARINE AQUACULTUR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ME – WORKING TOGETHER ..... TO DEVELOP MARINE AQUACULTURE IN THE 21</a:t>
            </a:r>
            <a:r>
              <a:rPr b="1" lang="en-US" sz="3200" spc="-1" strike="noStrike" baseline="30000">
                <a:solidFill>
                  <a:srgbClr val="ffffff"/>
                </a:solidFill>
                <a:latin typeface="Times New Roman"/>
              </a:rPr>
              <a:t>st</a:t>
            </a:r>
            <a:r>
              <a:rPr b="1" lang="en-US" sz="3200" spc="-1" strike="noStrike">
                <a:solidFill>
                  <a:srgbClr val="ffffff"/>
                </a:solidFill>
                <a:latin typeface="Times New Roman"/>
              </a:rPr>
              <a:t> CENTURY</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DOC POLICY TARGETS</a:t>
            </a:r>
            <a:endParaRPr b="0" lang="en-US" sz="48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value of domestic production from $900m to $5b to offset the $6b annual trade deficit in seafood</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jobs from 180,000 to 600,000</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exports of goods and services from $500m to $2.5b annually</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velop a Code of Conduct, responsible technologies, enhance depleted stocks, e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IFIC BREAK-OUT GROUP</a:t>
            </a:r>
            <a:endParaRPr b="0" lang="en-US" sz="4800" spc="-1" strike="noStrike">
              <a:solidFill>
                <a:srgbClr val="ffff00"/>
              </a:solidFill>
              <a:latin typeface="Times New Roman"/>
            </a:endParaRPr>
          </a:p>
        </p:txBody>
      </p:sp>
      <p:sp>
        <p:nvSpPr>
          <p:cNvPr id="48"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need for National and Regional advocacy for aquacultur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redible, authoritative voice to dispel myths, promote facts, and generally advocate for the sector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IFIC AQUACULTURE CAUCUS</a:t>
            </a:r>
            <a:endParaRPr b="0" lang="en-US" sz="4800" spc="-1" strike="noStrike">
              <a:solidFill>
                <a:srgbClr val="ffff00"/>
              </a:solidFill>
              <a:latin typeface="Times New Roman"/>
            </a:endParaRPr>
          </a:p>
        </p:txBody>
      </p:sp>
      <p:sp>
        <p:nvSpPr>
          <p:cNvPr id="50" name="PlaceHolder 2"/>
          <p:cNvSpPr>
            <a:spLocks noGrp="1"/>
          </p:cNvSpPr>
          <p:nvPr>
            <p:ph/>
          </p:nvPr>
        </p:nvSpPr>
        <p:spPr>
          <a:xfrm>
            <a:off x="761760" y="236232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nded in 200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orporated in the State of Washingt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profit Organization under Section 501(c)(6)</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hlinkClick r:id="rId1"/>
              </a:rPr>
              <a:t>www.pacaqua.or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log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1" name="" descr=""/>
          <p:cNvPicPr/>
          <p:nvPr/>
        </p:nvPicPr>
        <p:blipFill>
          <a:blip r:embed="rId2"/>
          <a:stretch/>
        </p:blipFill>
        <p:spPr>
          <a:xfrm>
            <a:off x="5257800" y="1981080"/>
            <a:ext cx="22860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MISSION OF PAC</a:t>
            </a:r>
            <a:endParaRPr b="0" lang="en-US" sz="4800" spc="-1" strike="noStrike">
              <a:solidFill>
                <a:srgbClr val="ffff00"/>
              </a:solidFill>
              <a:latin typeface="Times New Roman"/>
            </a:endParaRPr>
          </a:p>
        </p:txBody>
      </p:sp>
      <p:sp>
        <p:nvSpPr>
          <p:cNvPr id="53"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romote economically-viable and environmentally-responsible aquaculture for the Pacific region through sound public policy and best-available scienc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GOAL OF PAC</a:t>
            </a:r>
            <a:endParaRPr b="0" lang="en-US" sz="48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pro-active and transparent organization for collective leadership of aquaculture in the Pacific reg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mechanism to assist in the enactment of enabling legislation, guide strategies and policies for development, coordinate and promote activities at all levels, build coalitions and partnerships between stakeholders for common advantage, resolve issues constraining development, and act as the clearing-house for informat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strong advocate for aquaculture, in any of its diverse forms.</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EIGHT POINT PLAN</a:t>
            </a:r>
            <a:endParaRPr b="0" lang="en-US" sz="4800" spc="-1" strike="noStrike">
              <a:solidFill>
                <a:srgbClr val="ffff00"/>
              </a:solidFill>
              <a:latin typeface="Times New Roman"/>
            </a:endParaRPr>
          </a:p>
        </p:txBody>
      </p:sp>
      <p:sp>
        <p:nvSpPr>
          <p:cNvPr id="57"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ssist national, state, local, and tribal governments to base regulatory measures on a scientific basi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upport the best use of production systems to ensure development compatible with social and environmental need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acilitate the development and use of best practices and protocols by the industry to minimize all risk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ncourage coordination and collaboration among stakeholders to fulfill desirable goal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mote, coordinate, and assist programs of scientific research and technical development to make the best use of available resource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dvise, within its competence, on any matter appropriate to the promotion and development of aquaculture and its product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Undertake specific tasks to study and resolve issue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vide a focal point for gathering and disseminating information</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ACTIVITIES AND EVENTS</a:t>
            </a:r>
            <a:endParaRPr b="0" lang="en-US" sz="4800" spc="-1" strike="noStrike">
              <a:solidFill>
                <a:srgbClr val="ffff00"/>
              </a:solidFill>
              <a:latin typeface="Times New Roman"/>
            </a:endParaRPr>
          </a:p>
        </p:txBody>
      </p:sp>
      <p:sp>
        <p:nvSpPr>
          <p:cNvPr id="59"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rafted and distributed RESOLUTIONS on National and State issu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ganized WORKSHOPS on issu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ducted regular and open BOARD MEETING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00:10:02Z</dcterms:created>
  <dc:creator>Colin E. Nash</dc:creator>
  <dc:description/>
  <dc:language>en-US</dc:language>
  <cp:lastModifiedBy>Colin E. Nash</cp:lastModifiedBy>
  <dcterms:modified xsi:type="dcterms:W3CDTF">2003-11-26T17:28:07Z</dcterms:modified>
  <cp:revision>8</cp:revision>
  <dc:subject/>
  <dc:title>THE PACIFIC AQUACULTURE CAUCUS</dc:title>
</cp:coreProperties>
</file>